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795-03B8-4702-8FDD-4B50C008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49F-6EE9-44F6-93B8-6146EFFB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016-DCF5-4749-8BF0-65413ED0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62B-2CED-4502-AC91-88F65412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4FD5-9DD5-451C-B155-BA96A618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2CC2-748B-41E9-8713-BE9BDC83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53E6-9F54-49F0-9401-A3D3B90C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FBA3-E1A3-48DB-89D4-A03CF0FA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DFCB-E199-4DE7-AA04-83F3D68A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EBF0-CD11-4822-BB81-9BCD237C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8699-085D-4C80-BBFD-50E21607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D1F-BC96-46F2-98EE-C0D5A5C4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A25A-8E53-4DCB-998A-408E95CF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E55D-AFC5-4942-8BF9-5BE48207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8A7D-C897-4BC1-9AAC-29278E6B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11D0-7818-4BBD-BEE2-48CFB45D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CB0A-F4FA-44F7-8E58-A8AD91D7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428-448B-493B-8D30-BFEA2175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EAC-6408-4C02-88BE-FC23CA72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2C6-2A4C-4636-8453-6DCBE9A1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4A37-FA35-4F8B-8BD0-35DC5367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F1E-5D42-4D23-9512-74DB6FC8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5AC-9233-4DE2-ADC0-FE60050B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C11-CA5B-4233-B080-327EF6BC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A6CD-A0D1-4A68-AD07-2CBD25F386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22CB-9C8B-4141-83F4-211A620ED3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eometry 1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nday, August 8, 2011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esday, August 9, 201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3927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assroom Ice Brea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student will have an understanding of the classroom policies and proced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17960" y="2590920"/>
            <a:ext cx="3927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D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troduction to Geo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ce Brea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umber S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eometry 1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ednesday, August 10, 201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ursday, August 11, 2011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udent will have an understanding of the classroom policies and proced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l work:  Rational or Irrational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-2, 5.2345, ¾,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Note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ment:  Syllabus Sig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Geometry 1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iday, August 12, 201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udent will have an understanding of the classroom policies and proced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l 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Using at least three complete sentences, what is your goal for GEOMETRY CLA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ed Syllabus d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llab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Note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7:11:18Z</dcterms:created>
  <dc:creator>tstephens</dc:creator>
  <dc:description/>
  <dc:language>en-US</dc:language>
  <cp:lastModifiedBy>tstephens</cp:lastModifiedBy>
  <dcterms:modified xsi:type="dcterms:W3CDTF">2011-08-12T15:21:54Z</dcterms:modified>
  <cp:revision>14</cp:revision>
  <dc:subject/>
  <dc:title>Geometry 1 Thursday, August 13, 2009</dc:title>
</cp:coreProperties>
</file>